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7CA-B5EC-4AA8-A00A-B355FA95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56F-836B-4BFE-93FE-7657C69A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22C-E72C-45D9-80AB-C9856D8D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8D7-6A95-4463-B9A0-42AF4A45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50D-1E50-4CC5-92D9-72B6F09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1FB-B450-484F-BD44-531EAC16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21F-44E1-4B64-ABE6-0BE2F805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8C1-8EF6-456B-8A17-1833AE5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311-050F-44D0-B25C-A0BDC76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6B0-A3A3-4D3E-8EDA-6CD3736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E88-5977-4A5E-86CE-1E3B31D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02D-0915-475C-843D-5A0E9C7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916-2B83-491C-BF95-A8999A363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ff"/>
                </a:solidFill>
                <a:uFillTx/>
                <a:latin typeface="Calibri"/>
              </a:rPr>
              <a:t>Announc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1905120"/>
            <a:ext cx="58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The 2008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 E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</a:rPr>
              <a:t>of the TVS Lowe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880" y="9144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1523880"/>
            <a:ext cx="586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This election will be led by the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stud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decides their campaign “party”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have a different book character as their party’s “candidat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run a campaign to get their book character elected as the 2008 LS “</a:t>
            </a:r>
            <a:r>
              <a:rPr b="1" lang="en-US" sz="54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Campaigning will inclu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66880" y="2789280"/>
            <a:ext cx="647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campaign poster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nounc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nd delivering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All LS students will cast their vote on the morning of October 3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33520"/>
            <a:ext cx="6019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letype"/>
              </a:rPr>
              <a:t>will be announced at the end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5:41:46Z</dcterms:created>
  <dc:creator>Trinity Valley School</dc:creator>
  <dc:description/>
  <dc:language>en-US</dc:language>
  <cp:lastModifiedBy>Trinity Valley School</cp:lastModifiedBy>
  <dcterms:modified xsi:type="dcterms:W3CDTF">2008-10-03T14:52:41Z</dcterms:modified>
  <cp:revision>42</cp:revision>
  <dc:subject/>
  <dc:title>Slide 1</dc:title>
</cp:coreProperties>
</file>