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BBB-C87B-4B8D-9751-01137A3C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7C3-CDBD-482F-BA64-73F3FA4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59B-7791-4F54-A3BB-331F29FB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3EC-35A3-45FD-B1C4-21D729E7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D86-8316-4F26-A0BB-600CAAD0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67F-CE6E-43DC-90B8-E60892E4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319-C1DE-4E12-BB44-FBEA3C65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AB7-18E8-48CA-A9EC-288DF6CD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977-8C28-498C-B393-D5F0C6B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4A5-4F16-4F01-92A5-004C11E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7C9-19CB-47F9-9097-5713D1E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A29-03B7-4C30-AF84-42CB5D21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1DD0-91CB-48E9-BD27-FB8F171E8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ff"/>
                </a:solidFill>
                <a:uFillTx/>
                <a:latin typeface="Calibri"/>
              </a:rPr>
              <a:t>Announcing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3200" y="1905120"/>
            <a:ext cx="5867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The 2008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 El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334120"/>
            <a:ext cx="5943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uckoo"/>
              </a:rPr>
              <a:t>of the TVS Lower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6880" y="9144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74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6880" y="1523880"/>
            <a:ext cx="5867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This election will be led by the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stud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decides their campaign “party” na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457200"/>
            <a:ext cx="5867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have a different book character as their party’s “candidate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Each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eletype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 grade class will run a campaign to get their book character elected as the 2008 LS “</a:t>
            </a:r>
            <a:r>
              <a:rPr b="1" lang="en-US" sz="54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54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”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Campaigning will includ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66880" y="2789280"/>
            <a:ext cx="647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ing campaign poster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announc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and delivering 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457200"/>
            <a:ext cx="58672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All LS students will cast their vote on the morning of October 3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533520"/>
            <a:ext cx="60195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7200" spc="-1" strike="noStrike">
                <a:solidFill>
                  <a:srgbClr val="cc0000"/>
                </a:solidFill>
                <a:latin typeface="Teletype"/>
              </a:rPr>
              <a:t>M</a:t>
            </a:r>
            <a:r>
              <a:rPr b="1" lang="en-US" sz="4400" spc="-1" strike="noStrike">
                <a:solidFill>
                  <a:srgbClr val="cc0000"/>
                </a:solidFill>
                <a:latin typeface="Teletype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Teletype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Teletype"/>
              </a:rPr>
              <a:t>OP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Teletype"/>
              </a:rPr>
              <a:t>	</a:t>
            </a:r>
            <a:r>
              <a:rPr b="1" lang="en-US" sz="7200" spc="-1" strike="noStrike">
                <a:solidFill>
                  <a:srgbClr val="333399"/>
                </a:solidFill>
                <a:latin typeface="Teletype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eletype"/>
              </a:rPr>
              <a:t>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eletype"/>
              </a:rPr>
              <a:t>will be announced at the end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5:41:46Z</dcterms:created>
  <dc:creator>Trinity Valley School</dc:creator>
  <dc:description/>
  <dc:language>en-US</dc:language>
  <cp:lastModifiedBy>Trinity Valley School</cp:lastModifiedBy>
  <dcterms:modified xsi:type="dcterms:W3CDTF">2008-10-03T14:52:41Z</dcterms:modified>
  <cp:revision>42</cp:revision>
  <dc:subject/>
  <dc:title>Slide 1</dc:title>
</cp:coreProperties>
</file>