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5BB1-C011-4E4C-976F-DFFD0220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77A-215D-41E7-BBD0-3BE7EE07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0D3D-983D-40B3-8B7C-129E7005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7CA8-645A-4862-85F6-89264A85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2808-8EFC-4A70-9955-5B6BAEFD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527E-784B-4549-BD73-2DA0BD0B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EC24-FB86-44A0-974D-F00347A6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9826-4F55-499C-8066-3A544D79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ED5-D2A7-4A67-8408-EC82597B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9B3A-3023-48E6-94E9-1C41E9C7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8BB5-45DA-4FF0-96F0-D611103B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392-87AB-45CC-A623-9D5D4781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7103-CF71-4A6D-B041-AAA0E37F1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5943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ff"/>
                </a:solidFill>
                <a:uFillTx/>
                <a:latin typeface="Calibri"/>
              </a:rPr>
              <a:t>Announcing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43200" y="1905120"/>
            <a:ext cx="58672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The 2008</a:t>
            </a:r>
            <a:br>
              <a:rPr sz="7200"/>
            </a:br>
            <a:r>
              <a:rPr b="1" lang="en-US" sz="7200" spc="-1" strike="noStrike">
                <a:solidFill>
                  <a:srgbClr val="cc0000"/>
                </a:solidFill>
                <a:latin typeface="Teletype"/>
              </a:rPr>
              <a:t>M</a:t>
            </a: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P</a:t>
            </a:r>
            <a:r>
              <a:rPr b="1" lang="en-US" sz="7200" spc="-1" strike="noStrike">
                <a:solidFill>
                  <a:srgbClr val="333399"/>
                </a:solidFill>
                <a:latin typeface="Teletype"/>
              </a:rPr>
              <a:t>C</a:t>
            </a: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 Ele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5334120"/>
            <a:ext cx="5943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uckoo"/>
              </a:rPr>
              <a:t>of the TVS Lower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666880" y="914400"/>
            <a:ext cx="6019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cc0000"/>
                </a:solidFill>
                <a:latin typeface="Teletype"/>
              </a:rPr>
              <a:t>M</a:t>
            </a:r>
            <a:r>
              <a:rPr b="1" lang="en-US" sz="4400" spc="-1" strike="noStrike">
                <a:solidFill>
                  <a:srgbClr val="cc0000"/>
                </a:solidFill>
                <a:latin typeface="Teletype"/>
              </a:rPr>
              <a:t>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P</a:t>
            </a:r>
            <a:r>
              <a:rPr b="1" lang="en-US" sz="4400" spc="-1" strike="noStrike">
                <a:solidFill>
                  <a:srgbClr val="ffffff"/>
                </a:solidFill>
                <a:latin typeface="Teletype"/>
              </a:rPr>
              <a:t>OP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7200" spc="-1" strike="noStrike">
                <a:solidFill>
                  <a:srgbClr val="333399"/>
                </a:solidFill>
                <a:latin typeface="Teletype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eletype"/>
              </a:rPr>
              <a:t>HARAC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745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6880" y="1523880"/>
            <a:ext cx="58676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This election will be led by the 4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eletype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 grade student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3200" y="457200"/>
            <a:ext cx="5867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Each 4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eletype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 grade class decides their campaign “party” nam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43200" y="457200"/>
            <a:ext cx="5867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Each 4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eletype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 grade class will have a different book character as their party’s “candidate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43200" y="457200"/>
            <a:ext cx="58672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Each 4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eletype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 grade class will run a campaign to get their book character elected as the 2008 LS “</a:t>
            </a:r>
            <a:r>
              <a:rPr b="1" lang="en-US" sz="5400" spc="-1" strike="noStrike">
                <a:solidFill>
                  <a:srgbClr val="cc0000"/>
                </a:solidFill>
                <a:latin typeface="Teletype"/>
              </a:rPr>
              <a:t>M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P</a:t>
            </a:r>
            <a:r>
              <a:rPr b="1" lang="en-US" sz="5400" spc="-1" strike="noStrike">
                <a:solidFill>
                  <a:srgbClr val="333399"/>
                </a:solidFill>
                <a:latin typeface="Teletype"/>
              </a:rPr>
              <a:t>C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”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43200" y="457200"/>
            <a:ext cx="5867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Campaigning will include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666880" y="2789280"/>
            <a:ext cx="647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ing campaign poster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ng announcement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ing and delivering spee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43200" y="457200"/>
            <a:ext cx="58672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All LS students will cast their vote on the morning of October 30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90920" y="533520"/>
            <a:ext cx="601956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cc0000"/>
                </a:solidFill>
                <a:latin typeface="Teletype"/>
              </a:rPr>
              <a:t>M</a:t>
            </a:r>
            <a:r>
              <a:rPr b="1" lang="en-US" sz="4400" spc="-1" strike="noStrike">
                <a:solidFill>
                  <a:srgbClr val="cc0000"/>
                </a:solidFill>
                <a:latin typeface="Teletype"/>
              </a:rPr>
              <a:t>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P</a:t>
            </a:r>
            <a:r>
              <a:rPr b="1" lang="en-US" sz="4400" spc="-1" strike="noStrike">
                <a:solidFill>
                  <a:srgbClr val="ffffff"/>
                </a:solidFill>
                <a:latin typeface="Teletype"/>
              </a:rPr>
              <a:t>OP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7200" spc="-1" strike="noStrike">
                <a:solidFill>
                  <a:srgbClr val="333399"/>
                </a:solidFill>
                <a:latin typeface="Teletype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eletype"/>
              </a:rPr>
              <a:t>HARAC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eletype"/>
              </a:rPr>
              <a:t>will be announced at the end of the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5:41:46Z</dcterms:created>
  <dc:creator>Trinity Valley School</dc:creator>
  <dc:description/>
  <dc:language>en-US</dc:language>
  <cp:lastModifiedBy>Trinity Valley School</cp:lastModifiedBy>
  <dcterms:modified xsi:type="dcterms:W3CDTF">2008-10-03T14:52:41Z</dcterms:modified>
  <cp:revision>42</cp:revision>
  <dc:subject/>
  <dc:title>Slide 1</dc:title>
</cp:coreProperties>
</file>