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C6E7-D030-448E-AB46-E99774B9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E524-B646-4D70-B828-36D432E7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CA0E-403F-4BD8-BC36-83C8F81F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12EB-0D7F-4024-B36A-022955DB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8AB8-D947-42C2-8647-07F3001B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C785-2C30-4C6E-B832-5B4B4361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1598-F3BE-4B09-A6F9-875E172A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EC3-4C96-4E91-A59D-8EF2E3AC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885D-7FD9-44EA-8CD3-D979880E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6803-E9CC-4784-B6A8-717B96BA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7B4-F9FB-4FD5-A291-8EF13B57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5EB-0300-4454-A8FA-0F23688F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3ED2-8F05-4232-B144-7BD4E727F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5943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ff"/>
                </a:solidFill>
                <a:uFillTx/>
                <a:latin typeface="Calibri"/>
              </a:rPr>
              <a:t>Announcing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43200" y="1905120"/>
            <a:ext cx="58672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The 2008</a:t>
            </a:r>
            <a:br>
              <a:rPr sz="7200"/>
            </a:br>
            <a:r>
              <a:rPr b="1" lang="en-US" sz="72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72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 Ele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5334120"/>
            <a:ext cx="5943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uckoo"/>
              </a:rPr>
              <a:t>of the TVS Lower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666880" y="914400"/>
            <a:ext cx="6019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4400" spc="-1" strike="noStrike">
                <a:solidFill>
                  <a:srgbClr val="cc0000"/>
                </a:solidFill>
                <a:latin typeface="Teletype"/>
              </a:rPr>
              <a:t>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4400" spc="-1" strike="noStrike">
                <a:solidFill>
                  <a:srgbClr val="ffffff"/>
                </a:solidFill>
                <a:latin typeface="Teletype"/>
              </a:rPr>
              <a:t>OP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eletype"/>
              </a:rPr>
              <a:t>HARAC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745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6880" y="1523880"/>
            <a:ext cx="58676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This election will be led by the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student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457200"/>
            <a:ext cx="5867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Each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class decides their campaign “party” nam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43200" y="457200"/>
            <a:ext cx="5867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Each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class will have a different book character as their party’s “candidate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43200" y="457200"/>
            <a:ext cx="58672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Each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class will run a campaign to get their book character elected as the 2008 LS “</a:t>
            </a:r>
            <a:r>
              <a:rPr b="1" lang="en-US" sz="54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54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”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43200" y="457200"/>
            <a:ext cx="5867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Campaigning will include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666880" y="2789280"/>
            <a:ext cx="647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ing campaign poster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announcement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ing and delivering spee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43200" y="457200"/>
            <a:ext cx="58672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All LS students will cast their vote on the morning of October 3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90920" y="533520"/>
            <a:ext cx="601956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4400" spc="-1" strike="noStrike">
                <a:solidFill>
                  <a:srgbClr val="cc0000"/>
                </a:solidFill>
                <a:latin typeface="Teletype"/>
              </a:rPr>
              <a:t>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4400" spc="-1" strike="noStrike">
                <a:solidFill>
                  <a:srgbClr val="ffffff"/>
                </a:solidFill>
                <a:latin typeface="Teletype"/>
              </a:rPr>
              <a:t>OP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eletype"/>
              </a:rPr>
              <a:t>HARAC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eletype"/>
              </a:rPr>
              <a:t>will be announced at the end of th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5:41:46Z</dcterms:created>
  <dc:creator>Trinity Valley School</dc:creator>
  <dc:description/>
  <dc:language>en-US</dc:language>
  <cp:lastModifiedBy>Trinity Valley School</cp:lastModifiedBy>
  <dcterms:modified xsi:type="dcterms:W3CDTF">2008-10-03T14:52:41Z</dcterms:modified>
  <cp:revision>42</cp:revision>
  <dc:subject/>
  <dc:title>Slide 1</dc:title>
</cp:coreProperties>
</file>