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AF9D-394B-4007-ABA6-E3A703C9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AFD7-CFF1-49C3-ABF9-CB67AD1C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BD2D-0A62-4D99-AA99-9A48418A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9476-CF6D-4F01-BF14-DC408850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C463-8BE3-4929-B9B8-50D67E6C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CDB3-5B26-47C4-8A2E-7A2BB24E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6523-DDCC-46A1-85C0-44A2E988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CFC0-67E8-4126-82E0-41CEEE88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A25E-6707-4893-97C4-9804266F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9E71-9B27-4ECE-97B5-0B5BA456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BE93-16A0-481B-A0E0-91819A35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92E9-F086-40A6-9673-50B991BC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F3BB-F97A-4509-A5FC-698DBC715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j0214098.wav" TargetMode="External"/><Relationship Id="rId3" Type="http://schemas.microsoft.com/office/2007/relationships/media" Target="file:///tmp/home/.config/libreoffice/4/user/gallery/j0214098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5943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ff"/>
                </a:solidFill>
                <a:uFillTx/>
                <a:latin typeface="Calibri"/>
              </a:rPr>
              <a:t>Announcing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43200" y="1905120"/>
            <a:ext cx="58672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eletype"/>
              </a:rPr>
              <a:t>The 2008</a:t>
            </a:r>
            <a:br>
              <a:rPr sz="7200"/>
            </a:br>
            <a:r>
              <a:rPr b="1" lang="en-US" sz="7200" spc="-1" strike="noStrike">
                <a:solidFill>
                  <a:srgbClr val="cc0000"/>
                </a:solidFill>
                <a:latin typeface="Teletype"/>
              </a:rPr>
              <a:t>M</a:t>
            </a:r>
            <a:r>
              <a:rPr b="1" lang="en-US" sz="7200" spc="-1" strike="noStrike">
                <a:solidFill>
                  <a:srgbClr val="ffffff"/>
                </a:solidFill>
                <a:latin typeface="Teletype"/>
              </a:rPr>
              <a:t>P</a:t>
            </a:r>
            <a:r>
              <a:rPr b="1" lang="en-US" sz="7200" spc="-1" strike="noStrike">
                <a:solidFill>
                  <a:srgbClr val="333399"/>
                </a:solidFill>
                <a:latin typeface="Teletype"/>
              </a:rPr>
              <a:t>C</a:t>
            </a:r>
            <a:r>
              <a:rPr b="1" lang="en-US" sz="7200" spc="-1" strike="noStrike">
                <a:solidFill>
                  <a:srgbClr val="ffffff"/>
                </a:solidFill>
                <a:latin typeface="Teletype"/>
              </a:rPr>
              <a:t> Elec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5334120"/>
            <a:ext cx="5943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uckoo"/>
              </a:rPr>
              <a:t>of the TVS Lower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666880" y="914400"/>
            <a:ext cx="6019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cc0000"/>
                </a:solidFill>
                <a:latin typeface="Teletype"/>
              </a:rPr>
              <a:t>M</a:t>
            </a:r>
            <a:r>
              <a:rPr b="1" lang="en-US" sz="4400" spc="-1" strike="noStrike">
                <a:solidFill>
                  <a:srgbClr val="cc0000"/>
                </a:solidFill>
                <a:latin typeface="Teletype"/>
              </a:rPr>
              <a:t>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7200" spc="-1" strike="noStrike">
                <a:solidFill>
                  <a:srgbClr val="ffffff"/>
                </a:solidFill>
                <a:latin typeface="Teletype"/>
              </a:rPr>
              <a:t>P</a:t>
            </a:r>
            <a:r>
              <a:rPr b="1" lang="en-US" sz="4400" spc="-1" strike="noStrike">
                <a:solidFill>
                  <a:srgbClr val="ffffff"/>
                </a:solidFill>
                <a:latin typeface="Teletype"/>
              </a:rPr>
              <a:t>OP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7200" spc="-1" strike="noStrike">
                <a:solidFill>
                  <a:srgbClr val="333399"/>
                </a:solidFill>
                <a:latin typeface="Teletype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eletype"/>
              </a:rPr>
              <a:t>HARAC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745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6880" y="1523880"/>
            <a:ext cx="58676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This election will be led by the 4</a:t>
            </a:r>
            <a:r>
              <a:rPr b="1" lang="en-US" sz="5400" spc="-1" strike="noStrike" baseline="30000">
                <a:solidFill>
                  <a:srgbClr val="ffffff"/>
                </a:solidFill>
                <a:latin typeface="Teletype"/>
              </a:rPr>
              <a:t>th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 grade student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43200" y="457200"/>
            <a:ext cx="5867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Each 4</a:t>
            </a:r>
            <a:r>
              <a:rPr b="1" lang="en-US" sz="5400" spc="-1" strike="noStrike" baseline="30000">
                <a:solidFill>
                  <a:srgbClr val="ffffff"/>
                </a:solidFill>
                <a:latin typeface="Teletype"/>
              </a:rPr>
              <a:t>th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 grade class decides their campaign “party” nam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43200" y="457200"/>
            <a:ext cx="5867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Each 4</a:t>
            </a:r>
            <a:r>
              <a:rPr b="1" lang="en-US" sz="5400" spc="-1" strike="noStrike" baseline="30000">
                <a:solidFill>
                  <a:srgbClr val="ffffff"/>
                </a:solidFill>
                <a:latin typeface="Teletype"/>
              </a:rPr>
              <a:t>th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 grade class will have a different book character as their party’s “candidate.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43200" y="457200"/>
            <a:ext cx="58672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Each 4</a:t>
            </a:r>
            <a:r>
              <a:rPr b="1" lang="en-US" sz="5400" spc="-1" strike="noStrike" baseline="30000">
                <a:solidFill>
                  <a:srgbClr val="ffffff"/>
                </a:solidFill>
                <a:latin typeface="Teletype"/>
              </a:rPr>
              <a:t>th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 grade class will run a campaign to get their book character elected as the 2008 LS “</a:t>
            </a:r>
            <a:r>
              <a:rPr b="1" lang="en-US" sz="5400" spc="-1" strike="noStrike">
                <a:solidFill>
                  <a:srgbClr val="cc0000"/>
                </a:solidFill>
                <a:latin typeface="Teletype"/>
              </a:rPr>
              <a:t>M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P</a:t>
            </a:r>
            <a:r>
              <a:rPr b="1" lang="en-US" sz="5400" spc="-1" strike="noStrike">
                <a:solidFill>
                  <a:srgbClr val="333399"/>
                </a:solidFill>
                <a:latin typeface="Teletype"/>
              </a:rPr>
              <a:t>C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”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43200" y="457200"/>
            <a:ext cx="5867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Campaigning will include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666880" y="2789280"/>
            <a:ext cx="647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ing campaign poster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ng announcement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ing and delivering spee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43200" y="457200"/>
            <a:ext cx="58672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All LS students will cast their vote on the morning of October 30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90920" y="533520"/>
            <a:ext cx="601956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cc0000"/>
                </a:solidFill>
                <a:latin typeface="Teletype"/>
              </a:rPr>
              <a:t>M</a:t>
            </a:r>
            <a:r>
              <a:rPr b="1" lang="en-US" sz="4400" spc="-1" strike="noStrike">
                <a:solidFill>
                  <a:srgbClr val="cc0000"/>
                </a:solidFill>
                <a:latin typeface="Teletype"/>
              </a:rPr>
              <a:t>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7200" spc="-1" strike="noStrike">
                <a:solidFill>
                  <a:srgbClr val="ffffff"/>
                </a:solidFill>
                <a:latin typeface="Teletype"/>
              </a:rPr>
              <a:t>P</a:t>
            </a:r>
            <a:r>
              <a:rPr b="1" lang="en-US" sz="4400" spc="-1" strike="noStrike">
                <a:solidFill>
                  <a:srgbClr val="ffffff"/>
                </a:solidFill>
                <a:latin typeface="Teletype"/>
              </a:rPr>
              <a:t>OP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7200" spc="-1" strike="noStrike">
                <a:solidFill>
                  <a:srgbClr val="333399"/>
                </a:solidFill>
                <a:latin typeface="Teletype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eletype"/>
              </a:rPr>
              <a:t>HARAC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eletype"/>
              </a:rPr>
              <a:t>will be announced at the end of the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15:41:46Z</dcterms:created>
  <dc:creator>Trinity Valley School</dc:creator>
  <dc:description/>
  <dc:language>en-US</dc:language>
  <cp:lastModifiedBy>Trinity Valley School</cp:lastModifiedBy>
  <dcterms:modified xsi:type="dcterms:W3CDTF">2008-10-03T14:52:41Z</dcterms:modified>
  <cp:revision>42</cp:revision>
  <dc:subject/>
  <dc:title>Slide 1</dc:title>
</cp:coreProperties>
</file>